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FC1-FB56-4EE7-B850-A0EBA88D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A9C-6198-4BBA-A30B-6F519726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4EC-FD67-4D7D-87C8-058643F0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A52-8350-4828-A24B-B6AC9AFF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BD6-0AA9-4EA2-80F3-BB7CE941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103-8598-4F95-91A1-BB10B9B5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66B-B79E-4DC2-9687-4048ACA9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586-CF45-44B5-8DAB-B0924642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BDC-A191-4375-9679-F5325D3E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292-E2B6-407F-9DAA-959475F6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ABE-FCD6-43CE-9F80-89CB1E59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290-A218-4BDF-A18E-77E3091A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23584-67DC-4D52-A7D0-595AD1AED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9792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cture 1: intro and overvie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4571640"/>
            <a:ext cx="9097920" cy="214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Tammet, T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declarativ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ayer: plain facts a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y_id: My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1: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yer: rules a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(X1&lt;123 || X1&gt;44 || X2&lt;65) then result=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in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sodic knowledge: memory for "episodes" (i.e., the context of where, when, who with etc); usually measured by accuracy measures, has autobiographical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knowledge: Memory for knowledge of the world, facts, meaning of words, etc. (e.g., knowing that the first month of the year is April (alphabetically) but January (chronological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ve error checking rule is very similar to procedural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ing to make everything “configurable” leads us to using just another programming language for expressing configurable data and ru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inary programming languages are also seen as “declarative”, at least by compi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declarativeness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502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configurable information (like “Mycompany”) has to be used by different programs/different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“main program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or interfaces, database tools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erive new information (facts, rules) from given facts/r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limits/conditions not given ex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imported data, important special cases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learn new information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h decl and proc are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has to stem from purely practical considerations in each case: which option makes development &amp; maintenance simp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knowledge representation, both are really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ourse we will mostly focus on declarative repres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harvesting, adding metadata, deriving new facts/rules, learning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se are easier on declarativ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ped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ll-known example is the Procedural Reasoning System, which might, in the case of a mobile robot that navigates in a building, contain procedures such as "navigate to a room" or "plan a path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rast, an AI system based on declarative knowledge might just contain a map of the building, together with information about the basic actions that can be done by the robot (like moving forward, turning, and stopping), and leave it to a domain-independent planning algorithm to discover how to use those actions to achieve the agent's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(in psychology)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ve knowledge converted to proced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o drive a car, play tennis,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when I was learning to play tennis, I learned all about the rules of the game, where to come into contact with the ball on my racket, how to make the ball go where I wanted to by the follow through, and how to position my body for a backhand stroke. This is a set of factual information. Putting those facts into practice helped me gain the skills to transform a series of declarative knowledge into procedural knowledge. The skills I acquired couldn't be learned simply by being told. I gained the skills only after actively putting them into practice and being monitored by a coach who was constantly providing feedback.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(in programming)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ve knowledge converted to proced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automation and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understanding, notes and spec of the solution written down as an actual program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code compiled into machin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from robotics et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tics: planning vs reactive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at´s Cyc vs Brooks's robotic 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&amp; reaction combo in DARPA 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swarm: combining declarative and procedural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the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 and procedural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s: meaning and representation of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aping semistructu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in logic: apps in planning, robotic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rule/logic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, context, meta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and nonmonotonic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zed search and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search of facts/rules using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sych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ve knowledge is knowing "that" (e.g., that Washington D.C. is the capital of America), as opposed to procedural knowledge is knowing "how" (e.g., how to drive a ca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gram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ve representation: data and rules written in an easily processable simple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al representation: data and rules written as an executabl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ct distinction is - obviously -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 directly in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strcmp(client_id,”Mycompany”) )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macro d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define OUR_ID “Mycompan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strcmp(client_id,OUR_ID) )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456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configuration text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_id: My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strcmp(client_id,get_conf(client_id) ))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4: configuration xml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5: configuration table in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erro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e program should stop and give specific error messages for certain value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 logic directly in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(var1&lt;get_conf(limit1) || var1&gt;get_conf(limit2)   || var2&lt;get_conf(limit3) ...)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logic as a configuration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check_conf(“rule1”,var1,var2))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erro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present the configurable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 assume || ... || ... ||, fix values,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file or database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type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:123,44,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value: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o create and use a special rule handle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erro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605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use some “full” rule language a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(X1&lt;123 || X1&gt;44 || X2&lt;65) then result=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o create a relatively complex reasoner, able to parse the rule language, match given values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ing can be simplified by using XML, json, python data structures or other representation with available par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9:39:15Z</dcterms:created>
  <dc:creator>Tanel Tammet</dc:creator>
  <dc:description/>
  <dc:language>en-US</dc:language>
  <cp:lastModifiedBy/>
  <cp:revision>1</cp:revision>
  <dc:subject/>
  <dc:title/>
</cp:coreProperties>
</file>